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301-B9C9-4BD8-A016-7B13CE53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D48-80B3-464C-A29A-BB902D51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08A-E4A0-4CAC-BC0B-F41D55E9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A1A-F942-45F0-BD3B-B7CF70F2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416-8B72-45F8-9BF8-3B6C672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F54-0D0E-473D-88FB-9AEA2361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318-4FCB-4BAB-9624-A3D4E561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CAD-5C40-493F-95E8-8DBCE2AD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7BC-1D96-463B-8D19-66C3B9C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2F7-9DA0-4724-B649-36051F7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2C7-A3C3-48F0-B501-571F795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A72-7FC4-4781-B8B9-9F84AC1B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5DB-73D7-4C56-B256-82D32C0C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u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going to talk about   funny animals .You better like animals or ells you are boring. :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4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6:42Z</dcterms:modified>
  <cp:revision>4</cp:revision>
  <dc:subject/>
  <dc:title>When I Met You</dc:title>
</cp:coreProperties>
</file>